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18F67-1ED4-4AF3-9A98-A8F5B1B88A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2A141-7C62-4674-AB62-51225AAF41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9AE92-ACE3-4C11-A930-EEA9A68693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123CA-C866-402D-9337-24F8E39FE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3230A-E868-4B3A-8542-F3016E56D2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19BEC-6FF9-4DF9-AA65-98BB62084E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CC22B-3283-4888-9E2B-B91503C949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41910-1B0B-492A-9EE3-4FB2A58B2D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AA8F7-B553-40F4-B48A-1C78C951D7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92CC8-948E-4054-9832-68E0D6E7F2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Rubor, calor, dolor, tumor, functio la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C5B8E-0C05-449B-B6D7-6D009D11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F69AF-F6DE-427C-BBF9-FCBA0C2DEA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FC553-81F4-4D76-A01F-957DC7A0BF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5CB97-85FF-4855-82E2-1A5A328248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A5947-0E66-4453-B232-F4CBBBE7C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1BF85-14BD-4065-8B7B-EE3FD3A9EC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0F931-B95D-47E2-A3DE-18EA184A7B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9F306-904D-443B-9798-1A723DC8C8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B4A6E-6379-4AB2-916B-C58DB94BEC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08F2B-3DCD-410D-8128-8156225FBA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EF2E1-2EB1-4214-89D0-C6AC7D255D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99929-050D-41B9-8AD4-451B47AC7C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97E74-BC7D-46CB-B0DF-F5E4579498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B3BF2-6948-4C2E-A474-F646ACEE28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18765-0146-4F80-96CC-431F22C99E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11855-D24D-455D-B5B2-FD32BD67AE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77AB4-AB5F-498D-8E86-380CA2C71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3290C-22FF-439B-AFB7-602332EE4F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2096B-7A0D-4287-9BC8-54CD1CDA51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A88D8-5B38-4C6B-A767-55D4AE75EC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5D84E-AD35-4A10-8D1C-FC6DB4EC84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BBB8E-64D2-4F66-B54E-EE0817A618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5E06B-191B-4676-8134-EA373CDE03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6D47A-9FE8-417B-89F4-E70CB19092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46C80-1377-48AA-9032-F2A54F9404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D59A6-1665-4313-A028-2C61FE9640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7E497-CCC9-4276-AAEC-C9715170F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252F1-6E36-4787-BA39-F7ACE29F1D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44B7A-7B0A-482F-8ACE-11B851335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42795-86E6-42DF-BE5F-95AEFC6650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10556-C49A-4F7D-A966-36DCD38556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A1400-A86F-4D4E-A182-6B8661147D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5DA32-D83D-4C24-AB9C-0796264354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0A02A-D89F-4D14-A40B-0CCCEAB3D9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7313A-640A-45C6-890B-9DC271C9B2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28B02-0D89-4C5A-A94C-C7FD605B7E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BBF56-430B-4393-9EB7-12B54B1F4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0DE22-B69F-4965-ABB5-177F636676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FD13C-EB58-4509-B4DD-FFBBA7B4F4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1FDFD-2D97-489F-815F-1778AFED2E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93957-1724-4467-8F35-95874606BB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27017-9A89-493C-B68F-5F92E020BC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87B2B-8FDC-481B-839E-5A2B9F5649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22650-07DB-40A4-9A58-02EAD49349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6A1CB-BED5-4730-A18B-8BDFE5F712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C6F0B-60BC-492D-A997-32ACA938A2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40369-981E-493E-BB9D-2AB64A568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48D52-7350-4D59-B740-24A28D7259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56985-59F5-4548-A653-0CAFB76401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298E4-0F91-49F6-B5CF-B5CDCE320B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6AE06-8EA7-46E6-B7D5-F24D73392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AB294-A406-423F-A527-2CBA21F621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41673-2701-4AEE-86B0-7CBD2E6EA4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FF780-B9F5-4064-A003-18FE786C29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4FCC7-410C-439E-A458-3F0E76714D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806FF-7802-46BE-AABD-32DEB4203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DA07D-229D-4223-A16F-EDC505C8F0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3B2E8-17DF-4C5F-82AE-9E7942151B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19B68-14B1-4785-9EA3-CD3C98675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63708-8836-417B-9260-B9C84FCE1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F4355-1994-485D-B315-8228A6727E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77CB4-6130-4EF7-B25A-91CE7EABE0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4D769-1045-44EC-BD24-1172AB037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26C43-0685-4770-B4A0-E9A96D7099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4B2B6-5351-44A6-9345-A4C8FFB43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6AD1E-4F8F-4B73-BDC7-D16075D0B5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3F937-9771-4A23-9148-4BC3DBADA3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0C33-6A5C-4B71-BEC5-E058D5286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35A6-7928-4292-90F0-EB5BC7668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625E-ADBE-42C8-8ACD-8A74921E7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C180-749C-433E-BE0F-0312C6B64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F4D1-667D-4E8C-A343-61B775305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FC3E-799E-4ED5-9DDA-978527AA6A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9EEC-18E9-4E53-AF76-B4F79ACDCA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CC97-1E02-46E0-AF42-788608E2C3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3704-0DE9-4908-BC7B-08F6393A7E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92AA-AC62-4397-8B0B-24315C3B8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B4C9-68F9-42E9-9DC9-CF314AE691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9F7B-53FD-4E03-A6A6-55A42409E6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16F8-05AA-464D-90C7-5424E1D586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9D3A-5472-45F2-BD36-D17BC0D1F8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BFB2-4023-44AD-A0B4-2343825A9F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032B-C49F-4BB4-93DD-A3B10167DB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9C7C-0766-47A4-830D-C70E0FD1C2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1313-38C9-40FF-B13C-048B892F8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13F0-B661-4D1B-800F-D171A9AA4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7E01-4F0E-41AB-867A-062622386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B20B-C67C-4C3B-8D77-694CBDD55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8ED2-0AE4-455C-A76B-B245AFFD0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C1E8-B858-4EF8-8C6B-7419AA324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B2A1-F5C5-4F83-AC75-6D7BF7635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2FEC8-C6D8-402C-8929-8AE92A2978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9C873-38A4-49E8-B306-A09A46550650}" type="slidenum">
              <a: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611280" y="3284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Rehabilitation of  patients with rheumatic diseas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ABDED-3745-40E9-9600-4D36D149F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24000" y="1341360"/>
            <a:ext cx="8640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3720" algn="just">
              <a:lnSpc>
                <a:spcPct val="80000"/>
              </a:lnSpc>
              <a:spcBef>
                <a:spcPts val="55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the clinical and radiographic picture, there are four stages of RA 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ri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welling of the soft tiss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round MCP and PIP joints) and juxta-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steopor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narrowing of the joint space, development of subcortical cysts and edge erosions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incipien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uscle atro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ossible occurrence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ubcutaneous nodul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enosynovitis, without joint deformation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rosive changes are more prominent (destruction of the joint head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int sublux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ost often MCP and MTP), muscle atrophy, subcutaneous nodules and tenosynovitis,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joint de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kyl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changes already described in the stage III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EFFD6-42C9-4C3F-A649-466E5BA188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5545080" cy="2446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3995640" y="189000"/>
            <a:ext cx="4978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ning stiffness (&gt; 30min),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Swelling of the symmetrical joi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MCP, MTP, PIP, wrist and other joint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ut the spine never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569C8-70AF-4420-A71D-AD976C699F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rcRect l="0" t="0" r="12492" b="3000"/>
          <a:stretch/>
        </p:blipFill>
        <p:spPr>
          <a:xfrm>
            <a:off x="539640" y="549360"/>
            <a:ext cx="3333960" cy="295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780160" y="2077920"/>
            <a:ext cx="324000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11280" y="1000080"/>
            <a:ext cx="8229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suspect RA?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three or more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MTP or MCP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squeeze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ning stiffness &gt; 30 m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AA2E-7813-41FD-A8F1-541E5003C1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 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 test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presence of inflammatory 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P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influence of immunological and other complaints during development of 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F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i C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+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F6F37-C996-4477-8CE4-F578FCD777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44360" y="189000"/>
            <a:ext cx="8999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R/EULAR classification criteria for R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0</a:t>
            </a:r>
            <a:br>
              <a:rPr sz="3200"/>
            </a:b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 score 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  <a:ea typeface="Arial"/>
              </a:rPr>
              <a:t>≥ 6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</a:rPr>
              <a:t> points is required for classification as definite RA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457200" y="1484280"/>
            <a:ext cx="8055000" cy="1719360"/>
            <a:chOff x="457200" y="1484280"/>
            <a:chExt cx="8055000" cy="1719360"/>
          </a:xfrm>
        </p:grpSpPr>
        <p:sp>
          <p:nvSpPr>
            <p:cNvPr id="174" name="Rectangle 3"/>
            <p:cNvSpPr/>
            <p:nvPr/>
          </p:nvSpPr>
          <p:spPr>
            <a:xfrm>
              <a:off x="457200" y="1484280"/>
              <a:ext cx="3093480" cy="1710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) Joint involvement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3563280" y="14842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 medium-sized joint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131240" y="14842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3563280" y="182844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-10  medium-sized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7131240" y="182844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563280" y="2172600"/>
              <a:ext cx="35600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-3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7131240" y="2172600"/>
              <a:ext cx="13712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3563280" y="2512080"/>
              <a:ext cx="35600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4-10 large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7131240" y="2512080"/>
              <a:ext cx="13712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563280" y="28576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gt;10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7131240" y="28576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356328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713124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3563280" y="182844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3563280" y="217260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3563280" y="25120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3563280" y="28576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457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8512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457200" y="148428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457200" y="32036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457200" y="3247920"/>
            <a:ext cx="8066160" cy="630360"/>
            <a:chOff x="457200" y="3247920"/>
            <a:chExt cx="8066160" cy="630360"/>
          </a:xfrm>
        </p:grpSpPr>
        <p:sp>
          <p:nvSpPr>
            <p:cNvPr id="196" name="Rectangle 25"/>
            <p:cNvSpPr/>
            <p:nvPr/>
          </p:nvSpPr>
          <p:spPr>
            <a:xfrm>
              <a:off x="457200" y="3247920"/>
              <a:ext cx="3093480" cy="621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) Duration of synovit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3563280" y="3247920"/>
              <a:ext cx="357120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6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7"/>
            <p:cNvSpPr/>
            <p:nvPr/>
          </p:nvSpPr>
          <p:spPr>
            <a:xfrm>
              <a:off x="7142400" y="3247920"/>
              <a:ext cx="137124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8"/>
            <p:cNvSpPr/>
            <p:nvPr/>
          </p:nvSpPr>
          <p:spPr>
            <a:xfrm>
              <a:off x="3563280" y="3599280"/>
              <a:ext cx="357120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≥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7142400" y="3599280"/>
              <a:ext cx="137124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356328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71424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32"/>
            <p:cNvSpPr/>
            <p:nvPr/>
          </p:nvSpPr>
          <p:spPr>
            <a:xfrm>
              <a:off x="3563280" y="359928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572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852336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5"/>
            <p:cNvSpPr/>
            <p:nvPr/>
          </p:nvSpPr>
          <p:spPr>
            <a:xfrm>
              <a:off x="457200" y="324792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6"/>
            <p:cNvSpPr/>
            <p:nvPr/>
          </p:nvSpPr>
          <p:spPr>
            <a:xfrm>
              <a:off x="457200" y="387828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7"/>
          <p:cNvGrpSpPr/>
          <p:nvPr/>
        </p:nvGrpSpPr>
        <p:grpSpPr>
          <a:xfrm>
            <a:off x="468360" y="3906720"/>
            <a:ext cx="8055000" cy="665280"/>
            <a:chOff x="468360" y="3906720"/>
            <a:chExt cx="8055000" cy="665280"/>
          </a:xfrm>
        </p:grpSpPr>
        <p:sp>
          <p:nvSpPr>
            <p:cNvPr id="209" name="Rectangle 38"/>
            <p:cNvSpPr/>
            <p:nvPr/>
          </p:nvSpPr>
          <p:spPr>
            <a:xfrm>
              <a:off x="468360" y="3906720"/>
              <a:ext cx="3080520" cy="6559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) Acute phase response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3563280" y="3906720"/>
              <a:ext cx="35852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rmal levels of both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nd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7155000" y="3906720"/>
              <a:ext cx="13586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3563280" y="4239360"/>
              <a:ext cx="35852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bnormal levels of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42"/>
            <p:cNvSpPr/>
            <p:nvPr/>
          </p:nvSpPr>
          <p:spPr>
            <a:xfrm>
              <a:off x="7155000" y="4239360"/>
              <a:ext cx="13586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3"/>
            <p:cNvSpPr/>
            <p:nvPr/>
          </p:nvSpPr>
          <p:spPr>
            <a:xfrm>
              <a:off x="356328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44"/>
            <p:cNvSpPr/>
            <p:nvPr/>
          </p:nvSpPr>
          <p:spPr>
            <a:xfrm>
              <a:off x="715500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5"/>
            <p:cNvSpPr/>
            <p:nvPr/>
          </p:nvSpPr>
          <p:spPr>
            <a:xfrm>
              <a:off x="3563280" y="4239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46"/>
            <p:cNvSpPr/>
            <p:nvPr/>
          </p:nvSpPr>
          <p:spPr>
            <a:xfrm>
              <a:off x="468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47"/>
            <p:cNvSpPr/>
            <p:nvPr/>
          </p:nvSpPr>
          <p:spPr>
            <a:xfrm>
              <a:off x="8523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48"/>
            <p:cNvSpPr/>
            <p:nvPr/>
          </p:nvSpPr>
          <p:spPr>
            <a:xfrm>
              <a:off x="468360" y="390672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9"/>
            <p:cNvSpPr/>
            <p:nvPr/>
          </p:nvSpPr>
          <p:spPr>
            <a:xfrm>
              <a:off x="468360" y="457200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Rectangle 50"/>
          <p:cNvSpPr/>
          <p:nvPr/>
        </p:nvSpPr>
        <p:spPr>
          <a:xfrm>
            <a:off x="0" y="6248520"/>
            <a:ext cx="236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5295600" y="6620040"/>
            <a:ext cx="443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letaha D. et al. Ann Rheum Dis 2010 69: 1580-1588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52"/>
          <p:cNvGrpSpPr/>
          <p:nvPr/>
        </p:nvGrpSpPr>
        <p:grpSpPr>
          <a:xfrm>
            <a:off x="468360" y="4641840"/>
            <a:ext cx="8055000" cy="1984320"/>
            <a:chOff x="468360" y="4641840"/>
            <a:chExt cx="8055000" cy="1984320"/>
          </a:xfrm>
        </p:grpSpPr>
        <p:sp>
          <p:nvSpPr>
            <p:cNvPr id="224" name="Rectangle 53"/>
            <p:cNvSpPr/>
            <p:nvPr/>
          </p:nvSpPr>
          <p:spPr>
            <a:xfrm>
              <a:off x="468360" y="4641840"/>
              <a:ext cx="3080520" cy="197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) Serology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63280" y="4641840"/>
              <a:ext cx="357120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egative RF 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7142400" y="4641840"/>
              <a:ext cx="137124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56"/>
            <p:cNvSpPr/>
            <p:nvPr/>
          </p:nvSpPr>
          <p:spPr>
            <a:xfrm>
              <a:off x="3563280" y="497484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low titer: maximum 3 times above the upper reference valu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7142400" y="497484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58"/>
            <p:cNvSpPr/>
            <p:nvPr/>
          </p:nvSpPr>
          <p:spPr>
            <a:xfrm>
              <a:off x="3563280" y="579636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high titer: 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&gt;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 times above the upper reference value   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59"/>
            <p:cNvSpPr/>
            <p:nvPr/>
          </p:nvSpPr>
          <p:spPr>
            <a:xfrm>
              <a:off x="7142400" y="579636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0"/>
            <p:cNvSpPr/>
            <p:nvPr/>
          </p:nvSpPr>
          <p:spPr>
            <a:xfrm>
              <a:off x="356328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714240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2"/>
            <p:cNvSpPr/>
            <p:nvPr/>
          </p:nvSpPr>
          <p:spPr>
            <a:xfrm>
              <a:off x="3563280" y="497484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3"/>
            <p:cNvSpPr/>
            <p:nvPr/>
          </p:nvSpPr>
          <p:spPr>
            <a:xfrm>
              <a:off x="3563280" y="5796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4"/>
            <p:cNvSpPr/>
            <p:nvPr/>
          </p:nvSpPr>
          <p:spPr>
            <a:xfrm>
              <a:off x="468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>
              <a:off x="8523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66"/>
            <p:cNvSpPr/>
            <p:nvPr/>
          </p:nvSpPr>
          <p:spPr>
            <a:xfrm>
              <a:off x="468360" y="46418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7"/>
            <p:cNvSpPr/>
            <p:nvPr/>
          </p:nvSpPr>
          <p:spPr>
            <a:xfrm>
              <a:off x="468360" y="662616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6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E45D5-644B-40F6-86D3-BC94604410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24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IM of treatment is th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aintenance of functional capacity of the locomotive apparatu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joints and muscles, for enabling the patient as much as possible for performance of basic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ctivities of daily liv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professional 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E78AB-6B7D-4F8E-BA80-2C613BA39E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67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755640" y="2314440"/>
            <a:ext cx="763272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Medicamentous therapy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SAIDs, glycocorticoids, disease-modifying medicines, biological therap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ormation and edu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2C712-AFAC-40B8-B38D-FD3323B1ED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Аcute phase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phase of active synovit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oint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unload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vention of joi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ormiti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positioning of an extremity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use of plastic orthoses or plaster splints, which are removed during day for performing 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– reduction of inflammation and pain, 5-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isometric) contractio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 General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inactivity and resting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CC34E-D9CF-4432-892C-52ED220422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22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tho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31E4D-B1B9-49C5-B8AF-676E2C6153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736720" cy="237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708360" y="1844640"/>
            <a:ext cx="2158920" cy="3051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206712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ims of kinesitherap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muscle atroph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development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steoporosi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bone destruction due to in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3F550-662C-46A6-8D3C-6CB5F98CD0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57200" y="161928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Rheumatic diseases are etyologically, pathogenetically, clinically and therapeutically a heterogenous group of diseases.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ymptom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in the structures of the locomotive apparatu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ig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disrupted functio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f the affected par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ome diseases involve other organs and system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15455-C30D-4E4C-9A3C-4A18477EE4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50920" y="1125360"/>
            <a:ext cx="662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tatic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isometric) contractions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On weak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xtensors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</a:rPr>
              <a:t>for maintenance of muscle mass and strength and prevention of flexor contracture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Can be performed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In all positions, and also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while wearing splints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E8B6C-744C-4097-A3EB-9F5AD9A648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in chronic phase  (remission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68360" y="1341360"/>
            <a:ext cx="82296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motherapeu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rocedur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W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ffin wax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G; EF with Novocain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DDC; IFC; TENS; ES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ulse Magnetic Fiel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edematou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dati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s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-inflammato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rm local bath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exercis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for maintenance and improvement of the 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 the damaged joint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resisted exercises with proper dosag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or maintenance and improvement of the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muscle strength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joint stabilizers.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AB161-56F5-49B8-A07C-5D722EB298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755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1561A-7BEC-4B2E-B53F-79AEE10B19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395280" y="333360"/>
            <a:ext cx="826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68360" y="148428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xial spondyloarthritis (by ASAS defini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hronic inflammatory rheumatic disease characterized by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ynoviti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I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synovial joint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pinal column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(intervertebral, costovertebral, costotransversal) and more seldom CF, GH and peripheral joint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lesions of muscular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serti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еnthesitis) of the spinal column, ligaments and tendon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lvi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attachment of annulus fibrosus, anterior and posterior longitudina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lig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 yellow ligaments),peripheral joints and synchondrosi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or fibrous lesions of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ther organ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flammatory lesions of the locomotive apparatus spontaneously end in ossification,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kylosis of joints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ossification of insertions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74897-18F8-4F8A-87F6-EFC97A269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755640" y="1701720"/>
            <a:ext cx="7632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LAB27 allele is positive in 90 - 95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RF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alence in the world 1 – 2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begins between the ages of 15 and 29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mon in men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 : W = 3 : 1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4CC92-87BF-49AE-9192-39B1C024F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07880" y="189000"/>
            <a:ext cx="826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gnosis - ASAS criteri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49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D047-3E42-47E5-B9A2-DD48893F6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027760" y="2058840"/>
            <a:ext cx="3598560" cy="1128960"/>
          </a:xfrm>
          <a:prstGeom prst="rect">
            <a:avLst/>
          </a:prstGeom>
          <a:solidFill>
            <a:srgbClr val="dce6f2">
              <a:alpha val="91000"/>
            </a:srgbClr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93920" y="1192320"/>
            <a:ext cx="4438800" cy="642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Lumbar pain ≥3 months;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age at the onset of symptoms &lt;</a:t>
            </a:r>
            <a:r>
              <a:rPr b="1" lang="sr-Latn-C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45 year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076720" y="2058840"/>
            <a:ext cx="35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Open Sans"/>
              </a:rPr>
              <a:t>2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Verified presence of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HLAB27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+ ≥ 2 characteristics of Sp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000080" y="2058840"/>
            <a:ext cx="3751200" cy="137268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Verified sacroileitis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(MRI or X-ray verified signs of acute inflammation acording to modified New York criteria)</a:t>
            </a:r>
            <a:br>
              <a:rPr sz="16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+ ≥ 1 SpA characteristic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428920" y="3357720"/>
            <a:ext cx="4824360" cy="3288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pA characteristics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flammatory lumbar pai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enthesitis (heel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uve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arthr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dacty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psoria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col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good response to NSAID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SpA in the family anamne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+ HLAB27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creased level of CRP (SpA characteristic only in the context of chronic lumbar pain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AutoShape 8"/>
          <p:cNvCxnSpPr/>
          <p:nvPr/>
        </p:nvCxnSpPr>
        <p:spPr>
          <a:xfrm flipH="1">
            <a:off x="2995200" y="1790280"/>
            <a:ext cx="216720" cy="2689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AutoShape 9"/>
          <p:cNvCxnSpPr/>
          <p:nvPr/>
        </p:nvCxnSpPr>
        <p:spPr>
          <a:xfrm>
            <a:off x="5796000" y="1775880"/>
            <a:ext cx="289440" cy="275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95280" y="20520"/>
            <a:ext cx="826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characteristics of A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179280" y="765000"/>
            <a:ext cx="8775720" cy="5811840"/>
            <a:chOff x="179280" y="765000"/>
            <a:chExt cx="8775720" cy="5811840"/>
          </a:xfrm>
        </p:grpSpPr>
        <p:sp>
          <p:nvSpPr>
            <p:cNvPr id="283" name="Rectangle 3"/>
            <p:cNvSpPr/>
            <p:nvPr/>
          </p:nvSpPr>
          <p:spPr>
            <a:xfrm>
              <a:off x="179280" y="765000"/>
              <a:ext cx="273924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4"/>
            <p:cNvSpPr/>
            <p:nvPr/>
          </p:nvSpPr>
          <p:spPr>
            <a:xfrm>
              <a:off x="2928240" y="765000"/>
              <a:ext cx="601668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xial arthritis (sacroiliitis, spondy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rthritis „of the waist joints“ (hips and shoulder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eripheral arthritis more seldom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ther: enthesitis, osteoporosis, vertebral fractures, spondylodiscitis, pseudoarthros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179280" y="2866320"/>
              <a:ext cx="273924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TRA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2928240" y="2866320"/>
              <a:ext cx="601668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cute anterior uveitis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Cardiovascular disorder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(aortic insufficiency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spiratory disorders (lung fibros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Lesions of the intestinal mucosa (Chron's disease/col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soriasis 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179280" y="4962600"/>
              <a:ext cx="273924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YSTEMIC MANIFESTATIONS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2928240" y="4962600"/>
              <a:ext cx="601668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Fatigue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Weight loss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orexia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Night sweating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emia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292824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179280" y="2866320"/>
              <a:ext cx="87660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79280" y="49626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7928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95500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179280" y="7650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179280" y="657684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1A267-4626-464A-92DB-7F988A911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412920" y="4762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395280" y="1197000"/>
            <a:ext cx="8280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involving locomotive syste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Kyphosis, kyphoscoli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tlanto-axial dislo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!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steopor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Vertebral body fractur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Cauda equina syndrom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xtra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nkylosis of peripheral joint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EXTRA-ARTICULAR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myloid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ephrolythia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E08F5-8961-4B06-9280-A033C6B63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rcRect l="46407" t="5988" r="4278" b="9862"/>
          <a:stretch/>
        </p:blipFill>
        <p:spPr>
          <a:xfrm>
            <a:off x="5508720" y="1743120"/>
            <a:ext cx="341928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Palatino Linotype"/>
              </a:rPr>
              <a:t>Functional assesment through specifc tes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ecific instrumen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tests) for A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A56DD-2F92-439A-8558-0B42CCF3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87280" y="1308240"/>
            <a:ext cx="813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23360" rIns="2223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000"/>
            </a:b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74680" y="2378160"/>
            <a:ext cx="8427960" cy="3919320"/>
            <a:chOff x="274680" y="2378160"/>
            <a:chExt cx="8427960" cy="3919320"/>
          </a:xfrm>
        </p:grpSpPr>
        <p:sp>
          <p:nvSpPr>
            <p:cNvPr id="305" name="Rectangle 5"/>
            <p:cNvSpPr/>
            <p:nvPr/>
          </p:nvSpPr>
          <p:spPr>
            <a:xfrm>
              <a:off x="274680" y="2378160"/>
              <a:ext cx="581508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INSTRUMENT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6099480" y="2378160"/>
              <a:ext cx="258984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EASURES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274680" y="3017520"/>
              <a:ext cx="581508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disease activity index (BASDA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8"/>
            <p:cNvSpPr/>
            <p:nvPr/>
          </p:nvSpPr>
          <p:spPr>
            <a:xfrm>
              <a:off x="6099480" y="3017520"/>
              <a:ext cx="258984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egree of disease activity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274680" y="3814200"/>
              <a:ext cx="581508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functional index (BAS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6099480" y="3814200"/>
              <a:ext cx="258984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274680" y="4350240"/>
              <a:ext cx="581508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ougados functional index (D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6099480" y="4350240"/>
              <a:ext cx="258984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274680" y="4880160"/>
              <a:ext cx="581508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metrology index (BASM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6099480" y="4880160"/>
              <a:ext cx="258984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74680" y="5477040"/>
              <a:ext cx="581508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odified stoke ankylosing spondylitis spinal score (m-SASSS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6099480" y="5477040"/>
              <a:ext cx="258984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Structural damage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7"/>
            <p:cNvSpPr/>
            <p:nvPr/>
          </p:nvSpPr>
          <p:spPr>
            <a:xfrm>
              <a:off x="60994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274680" y="3018960"/>
              <a:ext cx="8418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274680" y="381420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274680" y="43502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74680" y="4880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274680" y="54770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>
              <a:off x="2746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870264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>
              <a:off x="274680" y="2378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>
              <a:off x="274680" y="629748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ment of the spinal column mobilit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9D481-879E-4BF9-8CE0-081C16DF8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55736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heumatic diseases are characterized b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great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frequenc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every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7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patient who seeks medical help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w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mortality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ate (as a cause of death they make a negligible share of 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01 ‰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ng-ter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sickleav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th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or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employee absenteeism)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disabilit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physical disability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A8D6-5E70-4315-A9C5-3787C41718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ngertip-to-Floo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428760" y="1643040"/>
            <a:ext cx="49719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Calibri"/>
              </a:rPr>
              <a:t>Sagittal mobility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bending forward to the point of pain with the knees extended;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ingertips to floor distanc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measured in 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27401-1C19-4602-81C1-753F95137E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457200" y="27000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Range of motion of the cervical spin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/ext              lateroflexio                      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395280" y="4464000"/>
            <a:ext cx="232236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3492360" y="4608360"/>
            <a:ext cx="2232000" cy="152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942920" cy="1528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6858360" y="392904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tto test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08000" y="2154240"/>
            <a:ext cx="4751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rk C7 segment with a marker, then mark another point 30 cm down the spine 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maximum anteflexion, the distance was grea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n 3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1D31C-C79D-472A-A739-55B0BF489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dified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Schobe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971640" y="2735280"/>
            <a:ext cx="70009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and 5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L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 distance should be increased for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t least 5 cm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03CC0-BEC5-41D6-9D1A-E65FA7446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Lumbar lateroflex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5720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ateral side bending t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level of the middle finger on each side is marked with a horizontal line on the side of the thigh. The subject is then asked to slowly bend sideways as far as possible and that level is also marked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istance between these two lines is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bout 2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ealthy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subjects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EAC46-A4F1-4C39-A0FD-5514A36B6C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index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395280" y="155736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the level of the intercostal space 4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x inspirium – max expirium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pends on age and gender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&gt; 5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75B8D-8512-40D3-934A-E8CC6C011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539640" y="1557360"/>
            <a:ext cx="814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Мedicamentou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NSAIDs; disease-modifying medicines, biological Т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. Res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-hour night rest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aily from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. Education – explain the nature of the diseas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Physical therap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i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aintain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obility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pine and coxofemoral j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trengthen the function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spiratory muscles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36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68482-D972-4872-9365-0499C4057C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365040" y="1000080"/>
            <a:ext cx="8364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Ultrasou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dos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1 - 1,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W/cm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on both SI joi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 on PVM of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 spine segmen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Kinesi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ercises for improvement of th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of the spine, exercises for improvement of the range of motion of the hips and shoulde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breathing exercises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 thoracic (costal breathing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„to the point of crying“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rmo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SWD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araffin wax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(pain re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muscle relaxation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lectroanalgesia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le galvaniz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F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with vasodilato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otassium-iodide and hydrocortis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yadynamic currents; Intraferential currents; Electrostimulation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ulse Magnetic Field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Laserotherapy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Massag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(reduces p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ecreases the tone of PVM, improves circulation and local metabolism of the tissues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DE81F-07FE-447C-B811-77AE786CD8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57200" y="6681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755640" y="1484280"/>
            <a:ext cx="7561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Rheumatism of the peripheral joi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thros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Degenerative rheumatic disease of the spine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pondyl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umbar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AC942-D7EB-4C75-9CAF-740670334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lassification of 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26920" y="2075040"/>
            <a:ext cx="785988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egenerative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xtra-articular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are rheumatic diseases and para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8E9C2-D190-4F72-B301-AEFB6DE031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08000" y="54936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diseases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1187280" y="1387440"/>
            <a:ext cx="7560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rthroses are defined a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amage of the joint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cartillag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 proliferation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f the bone ending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out synovial inflammation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r if present, it is mild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secondary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77214-D2E6-4233-B769-41D503EBC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arthro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iopati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1" lang="sr-Latn-CS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evelopmental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bol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crine disorder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flammation of joint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path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isorders in collagen synthesi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5092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Degenerative diseases 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457200" y="1197000"/>
            <a:ext cx="59864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i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itially only when overused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Stiffness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 the morning and after long-term immobilization 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Functional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disorders and joint </a:t>
            </a: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deformations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Crepitation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Laboratory results - normal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6F38F-6145-40B4-A3C6-91309B25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ic signs of arthr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57200" y="2133720"/>
            <a:ext cx="569916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pace narrow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chondral sclerosi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eophyt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s in the subchondral bo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6315120" y="4076640"/>
            <a:ext cx="250488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EC93A-679C-41A1-B3A2-E862F946FA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boratory analy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here are no specific laboratory test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normal or mildly increased in the subsequent inflammation complica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00C85-F21A-40D0-B1CE-12AED71B36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3964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vention of 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11280" y="1916280"/>
            <a:ext cx="83055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and an early treatment of congenital deform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ip disloca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injuri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adequate body weight, regular moderate physical activit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609480" y="762120"/>
            <a:ext cx="7131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dicamentous treatmen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979640" y="1989000"/>
            <a:ext cx="619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gesic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SAID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administered glucocorticoi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ndroprotect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79520" y="260280"/>
            <a:ext cx="757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n-medication treatment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900000" y="1773360"/>
            <a:ext cx="705816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formity correc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ndoprosthesis implant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763640" y="1557360"/>
            <a:ext cx="626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most frequent kind of arthrosis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ost common in persons aged &gt; 40 year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=F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50920" y="6245280"/>
            <a:ext cx="3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A8D63-5A48-4EB9-8680-55AC46CF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imary or idiopatic –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t is not the result of any known pathological hip condi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bout 42%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xarthroses develop after various pathological hip cond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40% of all coxarthroses are the consequence of the hi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velopmental disor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fter protrusion of the acetabulum, after injuries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nflamma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A42D4-D4C1-4A8F-ABC3-D6AE7CC46C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bined therap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50920" y="1600200"/>
            <a:ext cx="339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icamentous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algesic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ti-inflammatory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sease-modifying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al therapy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708360" y="1600200"/>
            <a:ext cx="51847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circulation and tissue nutri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evacuation of the extravasate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vention of muscle atrophy and  contractur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tissue elasti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activity of the kinesthetic and motor engram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l condition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198D9-CED6-4796-B18B-D03AC98E8D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250920" y="1341360"/>
            <a:ext cx="84358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ain when walking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the basic sign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occurs after 200m, 500m, 1km or more, depending on the degree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t the initial stag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diminishes with rest and when lying down, but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n the late stag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is felt during the whole day, later even during the night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is most often localized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n the anterior thigh extending to the kne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r in the anterior inner thigh; more rarely in the posterior thigh or under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764FF-4390-4335-9D32-4A2AD22B31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ogressive limitation of the range of hip motion 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lexion movement is affected at the latest stage, while much more common are limited hip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rotatio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r limited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bduc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often accompanied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audible cracking or clicking sound in a damaged hip, as well as occas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ck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hip join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later stage, the patient experienc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 when putting press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hip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ypotroph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thigh muscles, or decreased trophy and strength of the thigh musc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B8276-3690-4A3E-A9EF-7E4A410E07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n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763640" y="198900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comm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6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 years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9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6843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684360" y="1916280"/>
            <a:ext cx="77724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first clinical sig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s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terior or inner s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knee, much more rarely on the outer or posterior side, while later, it affects the whol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t the beginning it occurs when walking, especially on uneven groun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84AC6-F0BF-443B-95A4-0D5A9BB424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rating sensation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n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cking of the knee joint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oss of mo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occurs rarely and usually as a consequence of other damages of the joint cartillage or the menisci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Swelling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f the knee and accumulation of fluid in the knee occur at the later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Limitation of movements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especially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flex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ccurs many years later after the onset of the diseas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EA825-3709-4B43-A98D-BF635673B1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547640" y="163512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eventive measur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ervativ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: analgesics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SA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locally administered glucocorticoid, chondroprotecto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rgic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89685-EA65-4551-8D6E-77A3403746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p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nee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979640" y="1936800"/>
            <a:ext cx="4968720" cy="37814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3B721-5911-4A20-AB34-B310B2526C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24000" y="1197000"/>
            <a:ext cx="8464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Joint unloa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rease of body weight, a cane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crutch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ercises for maintenance and improvement of the strength of the stabilizer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swell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Therm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fter resolving inflamm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Elect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potassium-iodid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C, DD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gnet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19B0A-0CB3-4268-874C-5C7FBD5AE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95280" y="549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c disease of the spine - spondyl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187280" y="1941480"/>
            <a:ext cx="6624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ervical syndrom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Local cerv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brachi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ceph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medull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A0063-3710-499A-AEC5-5AF271010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Aims of 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00000" y="1557360"/>
            <a:ext cx="7786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 musc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troph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steoporo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o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ue to inactivit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еdu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F3B61-8DE4-400E-A525-EB0F957AEA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40464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uring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аcute phas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ocally, on the skin above the muscles located near the cervical spine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massag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s applied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wra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In more severe case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stabilization of the cervical spine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in the soft neck bra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Schantz collar) during the day and night, then only during the night while the symptoms are present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85950-82FB-46AB-AE3B-E6AF1D91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chronic phas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en the pain intensity diminishes, аnd the spine becomes more mobile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tions (analges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r NSAIDs as nee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r reduction of pain and spasm of the PV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 procedures in the form of warm compresses, hot baths, shower, 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apeutic ultrasound or sonophoresi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traction (stretching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 –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most importa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2DCB2-B141-43AA-9111-48F9910095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0" y="630360"/>
            <a:ext cx="9144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57200" y="162864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Lumbalgia</a:t>
            </a:r>
            <a:r>
              <a:rPr b="1" lang="sr-C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unspecific lumbar pain) (over 95%) – pain in the lower back from the lower ribs to the gluteal li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ciatic syndrom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5%) - pain spreding usually down one leg, which indicates irritation/compression of the nerve roo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evere spinal pathology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2%) – progressive neurological defici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B87E9-0A90-4EBA-956C-DABCE5BFC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lg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according to its duration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lt; 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sub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6 -1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chron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gt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Acute lumbalgia occurs due 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trusion of the nucleus pulposus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bluxation of the intervertebral joint (facet joint S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74BAE-1AB9-47E5-81AA-62B906A6E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discus hern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C6438-34BE-4BC0-840E-5AE2FEFC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6920" y="204156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ten between the age of 30 and 5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 more than 95% of cases at the level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L5 (compression of the root L5) or at the level L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S1 (compression of the root S1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68360" y="568440"/>
            <a:ext cx="822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2050920" y="1428840"/>
            <a:ext cx="613116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CONSERVATI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9853F-9A52-4C66-8BBA-D3CB48A29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ying in b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(CAUTION!!!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activity;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traction</a:t>
            </a:r>
            <a:r>
              <a:rPr b="0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lumbar sp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 therapy (antiphlogistics, analgesics, sedati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SUB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ormation and education regarding the diseas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13185-FB4F-42E3-B1D1-60977FF1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46836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8220" r="0" b="13858"/>
          <a:stretch/>
        </p:blipFill>
        <p:spPr>
          <a:xfrm>
            <a:off x="533520" y="3005280"/>
            <a:ext cx="2293920" cy="16761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A5A6D-5181-49A9-9048-745F44E06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3048120" cy="2046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3"/>
          <a:stretch/>
        </p:blipFill>
        <p:spPr>
          <a:xfrm>
            <a:off x="6477120" y="297648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4648320" y="3357720"/>
            <a:ext cx="137880" cy="31248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473040" y="50328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68360" y="1546200"/>
            <a:ext cx="3382920" cy="2387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382920" cy="25765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4067280" y="1557360"/>
            <a:ext cx="48592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6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ccording to Archimedes' law, water reduces the body's weigh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ater temperature decreases the muscle spasm and improves circul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 muscle weakness, improved efficacy in performance of movements has a positive psychological effe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C8959-7C9A-4561-B805-D7A91E8AE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 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3628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HRONIC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erapy in this stage is directed at </a:t>
            </a: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maintenance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of the  achieved state, or use of selected procedures on the basis of the functional sta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Ergonomic counselling and train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rough ergonomic counselling, the patient is trained for performing and using the protective movements and pos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3C813-0DF1-487D-B68A-E29EBCE60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19040" y="189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Ergonomic counselling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11198-663A-4973-ABD0-050AA843D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1096920" y="1279440"/>
            <a:ext cx="6583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7160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revention of the lumbar syndrom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457200" y="1484280"/>
            <a:ext cx="84358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otective position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ergotherapeutic adapt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uscle strengthenin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it is important to achieve balance between the strength of trunk flexors  and extensors, which means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tween the muscles of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nterior abdominal wal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back muscles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s well 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alance between the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hip flex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xtens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50883-359C-43E3-A4A8-5ED031C78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Extra-articular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835280" y="1467000"/>
            <a:ext cx="59767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hesitis or enthesopath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osynov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niculitis or cellu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ofibro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35F14-E87B-40F4-A6F7-5EA91227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eriarthritis humeroscapular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asically -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wellin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calcificat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of the soft structures around the shoulder join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process is  accompanied by the following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ymptom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pai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limited range of motio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muscle weaknes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665C9-3E89-4764-9041-79BEE90D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NNI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lateralis)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JAVELIN THROWER'S and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GOLFER'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medialis)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611280" y="1600200"/>
            <a:ext cx="7993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NNIS ELB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in and tenderness 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forea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tens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JAVELIN THROWER'S and GOLFER'S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enderness in the area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 j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ea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lex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anatomic chan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t the site of muscle attachments to bone:  periosteal thickening, metaplasia of the muscular attachments and fibrosis, ev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issue calcifi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457200" y="3678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403280" y="1589040"/>
            <a:ext cx="692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 (locall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 – electroanalgesic procedur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V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HOCK W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high-energy sound wav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5DBF4-EBA8-4D36-AC13-89BEC03E21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47628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6836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heumatoid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ndyloarthropat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Ankylosing spondy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busBechterew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syndrom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Psoriat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Enteropath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66D01-75CC-494B-809E-0C1DA661C2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ic disease of the connective tiss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f unknown etiology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chronic and progressive cours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nic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mmetric destructive polyarthritis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volvement of other organs in a small degree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s consequences include dissability, reduction of working capacity and premature death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3B830-1888-4F93-A333-508FC7D255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Nada Miklja</cp:lastModifiedBy>
  <dcterms:modified xsi:type="dcterms:W3CDTF">2023-09-27T09:24:02Z</dcterms:modified>
  <cp:revision>612</cp:revision>
  <dc:subject/>
  <dc:title>Slide 1</dc:title>
</cp:coreProperties>
</file>